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D9EF-375F-4EA8-9631-F30748691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4A8C-FAFE-4D00-9E7E-3BE8C66AA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7AD5-1E1E-40A7-BD5D-F50E042D8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15E3-EFFA-4CF2-B03A-3EE34E7FE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609E-DB9C-4A64-A414-B7C6A72E6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9743-525B-4ED2-92B0-DDA6F9227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A672-D4C2-4F88-80C1-6D38C1F3D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D463-B953-4790-9D38-795239E3B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C5B2-A8D5-4196-A4BA-DCFA5E6F9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A4DD-0554-4FE4-B9B7-2B43ADD3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3124-6CF4-4D96-998E-0D6DD599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BAB1-A477-4B79-B4CF-6981B49E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40D15-F336-489D-89FC-97C3EEDCB0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1.png"/><Relationship Id="rId6" Type="http://schemas.openxmlformats.org/officeDocument/2006/relationships/image" Target="../media/image2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-76320" y="42840"/>
            <a:ext cx="6934320" cy="4546440"/>
            <a:chOff x="-76320" y="42840"/>
            <a:chExt cx="6934320" cy="4546440"/>
          </a:xfrm>
        </p:grpSpPr>
        <p:pic>
          <p:nvPicPr>
            <p:cNvPr id="43" name="npcc1" descr=""/>
            <p:cNvPicPr/>
            <p:nvPr/>
          </p:nvPicPr>
          <p:blipFill>
            <a:blip r:embed="rId1"/>
            <a:stretch/>
          </p:blipFill>
          <p:spPr>
            <a:xfrm>
              <a:off x="-76320" y="88920"/>
              <a:ext cx="495324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joinnp" descr=""/>
            <p:cNvPicPr/>
            <p:nvPr/>
          </p:nvPicPr>
          <p:blipFill>
            <a:blip r:embed="rId2"/>
            <a:stretch/>
          </p:blipFill>
          <p:spPr>
            <a:xfrm>
              <a:off x="4343400" y="42840"/>
              <a:ext cx="2514600" cy="163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67320" y="852480"/>
              <a:ext cx="4469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pplication For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Please provide the following inform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80880" y="2101680"/>
              <a:ext cx="5730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ll Name: _____________________________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632480" y="2101680"/>
              <a:ext cx="2225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x: * Male / Fema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80880" y="2482920"/>
              <a:ext cx="388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ace: * Chinese / Malay / Oth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657600" y="2482920"/>
              <a:ext cx="192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lass: 1 / __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80880" y="2863800"/>
              <a:ext cx="31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hone no: _________________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657600" y="2863800"/>
              <a:ext cx="3124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thers no: _________________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6320" y="3610080"/>
              <a:ext cx="3124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______________________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ignature of Pupil’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80880" y="4297320"/>
              <a:ext cx="3505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* Delete whichever is not applicabl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-640800" y="3686760"/>
              <a:ext cx="1523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ate: 4 January 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CCSS_logo" descr=""/>
            <p:cNvPicPr/>
            <p:nvPr/>
          </p:nvPicPr>
          <p:blipFill>
            <a:blip r:embed="rId3"/>
            <a:stretch/>
          </p:blipFill>
          <p:spPr>
            <a:xfrm>
              <a:off x="5931000" y="3632040"/>
              <a:ext cx="927000" cy="939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3276360" y="3733920"/>
              <a:ext cx="2743200" cy="838080"/>
              <a:chOff x="3276360" y="3733920"/>
              <a:chExt cx="2743200" cy="838080"/>
            </a:xfrm>
          </p:grpSpPr>
          <p:grpSp>
            <p:nvGrpSpPr>
              <p:cNvPr id="57" name=""/>
              <p:cNvGrpSpPr/>
              <p:nvPr/>
            </p:nvGrpSpPr>
            <p:grpSpPr>
              <a:xfrm>
                <a:off x="3276360" y="3810240"/>
                <a:ext cx="2743200" cy="680760"/>
                <a:chOff x="3276360" y="3810240"/>
                <a:chExt cx="2743200" cy="680760"/>
              </a:xfrm>
            </p:grpSpPr>
            <p:pic>
              <p:nvPicPr>
                <p:cNvPr id="58" name="banner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76360" y="4038840"/>
                  <a:ext cx="2743200" cy="452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9" name=""/>
                <p:cNvSpPr/>
                <p:nvPr/>
              </p:nvSpPr>
              <p:spPr>
                <a:xfrm>
                  <a:off x="3710160" y="3810240"/>
                  <a:ext cx="1531080" cy="2764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ffcc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3300"/>
                      </a:solidFill>
                      <a:latin typeface="Vineta BT"/>
                    </a:rPr>
                    <a:t>CHAI CHEE Sec Sc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" name=""/>
              <p:cNvSpPr/>
              <p:nvPr/>
            </p:nvSpPr>
            <p:spPr>
              <a:xfrm>
                <a:off x="3276360" y="3733920"/>
                <a:ext cx="2743200" cy="83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" name=""/>
          <p:cNvGrpSpPr/>
          <p:nvPr/>
        </p:nvGrpSpPr>
        <p:grpSpPr>
          <a:xfrm>
            <a:off x="-76320" y="4599000"/>
            <a:ext cx="6934320" cy="4546440"/>
            <a:chOff x="-76320" y="4599000"/>
            <a:chExt cx="6934320" cy="4546440"/>
          </a:xfrm>
        </p:grpSpPr>
        <p:pic>
          <p:nvPicPr>
            <p:cNvPr id="62" name="npcc1" descr=""/>
            <p:cNvPicPr/>
            <p:nvPr/>
          </p:nvPicPr>
          <p:blipFill>
            <a:blip r:embed="rId5"/>
            <a:stretch/>
          </p:blipFill>
          <p:spPr>
            <a:xfrm>
              <a:off x="-76320" y="4645080"/>
              <a:ext cx="495324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joinnp" descr=""/>
            <p:cNvPicPr/>
            <p:nvPr/>
          </p:nvPicPr>
          <p:blipFill>
            <a:blip r:embed="rId6"/>
            <a:stretch/>
          </p:blipFill>
          <p:spPr>
            <a:xfrm>
              <a:off x="4343400" y="4599000"/>
              <a:ext cx="2514600" cy="163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67320" y="5408640"/>
              <a:ext cx="4469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pplication For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Please provide the following inform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0880" y="6657840"/>
              <a:ext cx="5730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ll Name: _____________________________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632480" y="6657840"/>
              <a:ext cx="2225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x: * Male / Fema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880" y="7039080"/>
              <a:ext cx="388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ace: * Chinese / Malay / Oth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657600" y="7039080"/>
              <a:ext cx="192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lass: 1 / __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80880" y="7419960"/>
              <a:ext cx="31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hone no: _________________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57600" y="7419960"/>
              <a:ext cx="3124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thers no: _________________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6320" y="8166240"/>
              <a:ext cx="3124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______________________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ignature of Pupil’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80880" y="8853480"/>
              <a:ext cx="3505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* Delete whichever is not applicabl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rot="5400000">
              <a:off x="-640800" y="8242920"/>
              <a:ext cx="1523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ate: 4 January 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" name="CCSS_logo" descr=""/>
            <p:cNvPicPr/>
            <p:nvPr/>
          </p:nvPicPr>
          <p:blipFill>
            <a:blip r:embed="rId7"/>
            <a:stretch/>
          </p:blipFill>
          <p:spPr>
            <a:xfrm>
              <a:off x="5931000" y="8188200"/>
              <a:ext cx="927000" cy="939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5" name=""/>
            <p:cNvGrpSpPr/>
            <p:nvPr/>
          </p:nvGrpSpPr>
          <p:grpSpPr>
            <a:xfrm>
              <a:off x="3276360" y="8290080"/>
              <a:ext cx="2743200" cy="838080"/>
              <a:chOff x="3276360" y="8290080"/>
              <a:chExt cx="2743200" cy="838080"/>
            </a:xfrm>
          </p:grpSpPr>
          <p:grpSp>
            <p:nvGrpSpPr>
              <p:cNvPr id="76" name=""/>
              <p:cNvGrpSpPr/>
              <p:nvPr/>
            </p:nvGrpSpPr>
            <p:grpSpPr>
              <a:xfrm>
                <a:off x="3276360" y="8366400"/>
                <a:ext cx="2743200" cy="680760"/>
                <a:chOff x="3276360" y="8366400"/>
                <a:chExt cx="2743200" cy="680760"/>
              </a:xfrm>
            </p:grpSpPr>
            <p:pic>
              <p:nvPicPr>
                <p:cNvPr id="77" name="banner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276360" y="8595000"/>
                  <a:ext cx="2743200" cy="452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" name=""/>
                <p:cNvSpPr/>
                <p:nvPr/>
              </p:nvSpPr>
              <p:spPr>
                <a:xfrm>
                  <a:off x="3710160" y="8366400"/>
                  <a:ext cx="1531080" cy="2764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ffcc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3300"/>
                      </a:solidFill>
                      <a:latin typeface="Vineta BT"/>
                    </a:rPr>
                    <a:t>CHAI CHEE Sec Sc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" name=""/>
              <p:cNvSpPr/>
              <p:nvPr/>
            </p:nvSpPr>
            <p:spPr>
              <a:xfrm>
                <a:off x="3276360" y="8290080"/>
                <a:ext cx="2743200" cy="83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1T15:42:05Z</dcterms:created>
  <dc:creator>Bernard Lee</dc:creator>
  <dc:description/>
  <dc:language>en-US</dc:language>
  <cp:lastModifiedBy>Bernard Lee</cp:lastModifiedBy>
  <dcterms:modified xsi:type="dcterms:W3CDTF">2002-01-01T15:43:00Z</dcterms:modified>
  <cp:revision>1</cp:revision>
  <dc:subject/>
  <dc:title>PowerPoint Presentation</dc:title>
</cp:coreProperties>
</file>