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53AF-1B69-445E-9B2A-2BA00ED3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06DC-4918-4D2E-A80A-82B8D89E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491-2100-472C-94D9-D5A03DC6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C155-3BAF-4CB5-819A-81874C3F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BC98-60DE-4394-8B63-AFF8837C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9646-38DC-46FD-BA1C-2990E7A2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58E5-8400-4C33-8A19-0C682647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99D4-BEFA-47A2-AA54-EEC16BEF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7303-2404-4A03-9121-AF6C5E62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F373-D232-415B-A737-2F1DC9CD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3D77-4543-4EE5-B359-A9DA3D15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2321-72EF-42B2-9FB7-0DE6C2E3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9FEA-ECB6-4564-A23D-9FE742D2A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0" y="2133720"/>
            <a:ext cx="6858000" cy="2133360"/>
          </a:xfrm>
          <a:prstGeom prst="cloudCallout">
            <a:avLst>
              <a:gd name="adj1" fmla="val -22060"/>
              <a:gd name="adj2" fmla="val 107138"/>
            </a:avLst>
          </a:prstGeom>
          <a:gradFill rotWithShape="0">
            <a:gsLst>
              <a:gs pos="0">
                <a:srgbClr val="d5f3fe"/>
              </a:gs>
              <a:gs pos="100000">
                <a:srgbClr val="33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85800" y="228600"/>
            <a:ext cx="5486400" cy="1914480"/>
            <a:chOff x="685800" y="228600"/>
            <a:chExt cx="5486400" cy="1914480"/>
          </a:xfrm>
        </p:grpSpPr>
        <p:grpSp>
          <p:nvGrpSpPr>
            <p:cNvPr id="43" name=""/>
            <p:cNvGrpSpPr/>
            <p:nvPr/>
          </p:nvGrpSpPr>
          <p:grpSpPr>
            <a:xfrm>
              <a:off x="685800" y="542880"/>
              <a:ext cx="5486400" cy="1285920"/>
              <a:chOff x="685800" y="542880"/>
              <a:chExt cx="5486400" cy="1285920"/>
            </a:xfrm>
          </p:grpSpPr>
          <p:pic>
            <p:nvPicPr>
              <p:cNvPr id="44" name="banner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923760"/>
                <a:ext cx="5486400" cy="90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1659600" y="542880"/>
                <a:ext cx="287964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cc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Vineta BT"/>
                  </a:rPr>
                  <a:t>CHAI CHEE Sec Sc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6" name="bd15184_" descr=""/>
            <p:cNvPicPr/>
            <p:nvPr/>
          </p:nvPicPr>
          <p:blipFill>
            <a:blip r:embed="rId2"/>
            <a:stretch/>
          </p:blipFill>
          <p:spPr>
            <a:xfrm>
              <a:off x="865080" y="2057400"/>
              <a:ext cx="5127840" cy="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bd15184_" descr=""/>
            <p:cNvPicPr/>
            <p:nvPr/>
          </p:nvPicPr>
          <p:blipFill>
            <a:blip r:embed="rId3"/>
            <a:stretch/>
          </p:blipFill>
          <p:spPr>
            <a:xfrm>
              <a:off x="892080" y="228600"/>
              <a:ext cx="5127840" cy="8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"/>
          <p:cNvSpPr txBox="1"/>
          <p:nvPr/>
        </p:nvSpPr>
        <p:spPr>
          <a:xfrm>
            <a:off x="457200" y="259092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507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a8caec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cffff"/>
                  </a:outerShdw>
                </a:effectLst>
                <a:latin typeface="Impact"/>
              </a:rPr>
              <a:t>Join NPCC</a:t>
            </a:r>
            <a:endParaRPr b="1" lang="en-US" sz="2400" spc="1" strike="noStrike">
              <a:ln w="507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a8caec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cc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6320" y="8077320"/>
            <a:ext cx="67053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3300"/>
                    </a:gs>
                  </a:gsLst>
                  <a:lin ang="10800000"/>
                </a:gradFill>
                <a:latin typeface="Impact"/>
              </a:rPr>
              <a:t>THE BEST CCA OF ALL!</a:t>
            </a:r>
            <a:endParaRPr b="0" lang="en-US" sz="2400" spc="1" strike="noStrike">
              <a:ln w="381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3300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pic>
        <p:nvPicPr>
          <p:cNvPr id="50" name="sssnpc1" descr=""/>
          <p:cNvPicPr/>
          <p:nvPr/>
        </p:nvPicPr>
        <p:blipFill>
          <a:blip r:embed="rId4"/>
          <a:stretch/>
        </p:blipFill>
        <p:spPr>
          <a:xfrm>
            <a:off x="228600" y="61722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51" name="cp2-6" descr=""/>
          <p:cNvPicPr/>
          <p:nvPr/>
        </p:nvPicPr>
        <p:blipFill>
          <a:blip r:embed="rId5"/>
          <a:stretch/>
        </p:blipFill>
        <p:spPr>
          <a:xfrm>
            <a:off x="5105520" y="5181480"/>
            <a:ext cx="1650960" cy="2590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16200" y="6172200"/>
            <a:ext cx="32256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e Down To O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ow-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iday, 4 January ‘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pm to 6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15:55:23Z</dcterms:created>
  <dc:creator>Bernard Lee</dc:creator>
  <dc:description/>
  <dc:language>en-US</dc:language>
  <cp:lastModifiedBy>Bernard Lee</cp:lastModifiedBy>
  <dcterms:modified xsi:type="dcterms:W3CDTF">2002-01-01T16:11:40Z</dcterms:modified>
  <cp:revision>2</cp:revision>
  <dc:subject/>
  <dc:title>PowerPoint Presentation</dc:title>
</cp:coreProperties>
</file>